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AD4-6DE1-4043-AA3B-28CB6565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C2E-E8CB-49AA-BF8F-D4E424D3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9C18-4DA0-46B8-936E-5CC5D0EE7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D4F-5F34-44EA-A57A-13EF0EF6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5E21-9994-46E3-9069-0635AD0A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85D7-406D-4583-B718-5B977653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6B2-315D-4C88-8ABD-4CB8BB7B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4E1-B86D-4564-BB20-7ADB0740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7E09-3D83-4640-8E20-85B21218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2E3-A27C-451A-879A-A6AAABC4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3428-8F03-4450-AEDA-CF467AD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1A1-0199-47D9-A4CD-921D574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D0D2-15BE-4367-BAEE-BF3C183C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CABE-BD3D-4955-A735-0D5BAE69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6284-D914-4754-82D6-4932DED7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22F6-42CF-4C3F-B884-C623D9DC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95C6-A933-4BDD-BF67-51F6DE44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C63-B51F-4213-B041-16192FEA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699-BADA-42BA-9E72-57E43C13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88C-D977-49B2-95D9-A93B536C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50B-F701-4068-AB9C-DADD3A11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E29-494B-4F2A-84E9-723F0AE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6A6-9DFD-4290-8DCF-8C8DE76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ACE-641A-49F7-A28D-E02C157E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bf1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0FF5-F317-4B43-9268-57394E9B924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bf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b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bf1f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61B-156B-4B1B-B463-B3F79B494D1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bf1f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bf1f"/>
                </a:solidFill>
                <a:latin typeface="Garamond"/>
              </a:rPr>
              <a:t>EFFECTS OF EUROPEAN COLONIALISM ON AFRICA</a:t>
            </a:r>
            <a:endParaRPr b="0" lang="en-US" sz="52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African Perspective – Negative con’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divided Africa with no regard to groups and cultu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legitimacy of traditional African practices was undermined.  (There was nothing wrong with African culture to begin with!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IT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POSI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es provided Europe with strategic military and economic advant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received minerals and other natural resources from colonies, which fed the Industrial Revolution in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tive – Positive con’t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s were converted to Christian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had access to cheap labor sour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 developed trade relationships with Af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UTRAL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spent money to establish “basics” of society like government and judicial syste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EUROPE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GA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had to fight against rebelli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al rule in many places, especially the Congo, was morally repugnant.  (That means it just wasn’t right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AFRIC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POSI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powers somewhat improved transportation and communication infrastructures, health facilities, housing and edu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earned some things about market economic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educated abroad came back and helped their countri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AFRIC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UTRAL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ssionaries came to Af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ew Africans were granted French citizenshi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s made transportation links and trade routes between Africa and Eur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AFRICAN PERSPECTIVE</a:t>
            </a:r>
            <a:br>
              <a:rPr sz="4000"/>
            </a:br>
            <a:r>
              <a:rPr b="0" lang="en-US" sz="4000" spc="-1" strike="noStrike">
                <a:solidFill>
                  <a:srgbClr val="ffbf1f"/>
                </a:solidFill>
                <a:latin typeface="Garamond"/>
              </a:rPr>
              <a:t>NEGATIVE</a:t>
            </a:r>
            <a:endParaRPr b="0" lang="en-US" sz="40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had to fight against colonial powe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uropean settlers appropriated (took) good land, taking it away from Afric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 Africans were forced into hard labor for low w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lost control over natural resourc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55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f1f"/>
                </a:solidFill>
                <a:latin typeface="Garamond"/>
              </a:rPr>
              <a:t>African Perspective – Negative con’t</a:t>
            </a:r>
            <a:endParaRPr b="0" lang="en-US" sz="4400" spc="-1" strike="noStrike">
              <a:solidFill>
                <a:srgbClr val="ffbf1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y African leaders were removed from pow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fricans were not properly prepared for independen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8:07:19Z</dcterms:created>
  <dc:creator>Cincinnati Public Schools</dc:creator>
  <dc:description/>
  <dc:language>en-US</dc:language>
  <cp:lastModifiedBy>Cincinnati Public Schools</cp:lastModifiedBy>
  <dcterms:modified xsi:type="dcterms:W3CDTF">2011-10-12T19:54:59Z</dcterms:modified>
  <cp:revision>3</cp:revision>
  <dc:subject/>
  <dc:title>Slide 1</dc:title>
</cp:coreProperties>
</file>